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B1A1-E25A-4F2A-A3EB-AFBEA22F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9B18-CA66-41EC-AF94-83901639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1F5-EFAD-4BFE-97BA-B026AC20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C209-EA0F-4684-B6FD-5667826E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664C-E63B-49BA-A699-7197C348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EB27-D3EA-4EC3-A092-DE016629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7EC0-CBDF-4D53-AC3D-835AEBBB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5378-AA63-49C5-8F48-617EBCA5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53C5-6C52-4C46-8346-16B2981A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1DB3-B142-4C22-B7FB-40E39A47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1A9B-2E6E-4E42-8594-3F480993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3460-9023-4D0A-811F-A9BCEAB2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9060-2C2D-4C0A-BEA7-9132F69E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F972-E962-4E44-8345-40B4FAC6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4626-D3F0-42DC-8523-2DA6B7AE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8320-F9D7-4BCD-9D5F-9824C9F23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F11A-9576-451C-8B52-C4D8FC40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6466-9AAB-4EE5-910A-C34D0101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0480-3513-46FC-8D41-D90F17C2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0AD8-B572-418E-93DC-689749B4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91A2-0DB2-4B5B-AF81-2C3A8BEE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1986-6457-4453-8C24-F1640773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47C2-41E5-4AF9-9898-41C51A22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2F7C-EAB3-4D16-A884-7A48B47F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3CEA-7C29-447A-AB1E-2E5C210FCEF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FCAA-3558-452A-AA86-EAA0981B08C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e103"/>
                </a:solidFill>
                <a:uFillTx/>
                <a:latin typeface="Arial Black"/>
              </a:rPr>
              <a:t>Present Day Russi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Lucia Buzzell, Sacha Ivanov, and Hunter Weinberg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00"/>
                </a:solidFill>
                <a:uFillTx/>
                <a:latin typeface="Arial Black"/>
              </a:rPr>
              <a:t>Govern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Russia is both a democracy and a federal republic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Power is divided between national and state governments with a president who leads the n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Government no longer sets prices on food or other good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Arial Black"/>
              </a:rPr>
              <a:t>Econom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Russia is a market econom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Higher prices make it harder to buy necessities like food and clothe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"/>
          <p:cNvSpPr/>
          <p:nvPr/>
        </p:nvSpPr>
        <p:spPr>
          <a:xfrm>
            <a:off x="-685800" y="335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 Black"/>
              </a:rPr>
              <a:t>Climate Types In Russi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TUNDRA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Vast treeless plain in high latitude climates which is covered in ic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SUBARCTIC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pattern of weather characterized by bitter winters and cool summer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4292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HUMID CONTINENTA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Pattern of weather characterized by cold long snowy winters and hot short summer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STEPP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dry grassland often found on the edges of a deser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00"/>
                </a:solidFill>
                <a:uFillTx/>
                <a:latin typeface="Arial Black"/>
              </a:rPr>
              <a:t>Medical Issu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Black"/>
              </a:rPr>
              <a:t>Life expectancy has fall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Black"/>
              </a:rPr>
              <a:t>Rising number in both cancer and lung diseas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Black"/>
              </a:rPr>
              <a:t>Pollution causes harm to Russia’s healt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Black"/>
              </a:rPr>
              <a:t>Many Russians drink lots of vodka as if its wa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Arial Black"/>
              </a:rPr>
              <a:t>Daily Lif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Many Russians enjoy hiking, camping, and mountain climb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They also enjoy soccer, hockey, tennis, and ches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 Black"/>
              </a:rPr>
              <a:t>Cul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90% of population speaks Russi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igh amount of ethnic group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54:35Z</dcterms:created>
  <dc:creator> </dc:creator>
  <dc:description/>
  <dc:language>en-US</dc:language>
  <cp:lastModifiedBy>Hunter</cp:lastModifiedBy>
  <dcterms:modified xsi:type="dcterms:W3CDTF">2010-12-15T03:54:22Z</dcterms:modified>
  <cp:revision>6</cp:revision>
  <dc:subject/>
  <dc:title>Present Day Russia</dc:title>
</cp:coreProperties>
</file>